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D29F2-9BF8-4EBC-83B8-8FBA8B40C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A199-C028-47BB-8158-9E9A398A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7688A-43F6-4C99-85D5-BE01BE6B0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99413-6A12-4F2C-96CB-0188DC852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40742-A747-45AE-8077-98631953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6CF2-021F-44C1-B844-8EBB92C27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3D73F-47CD-4487-B155-2F7AFC94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EBC3E-9CDD-4D4A-B3FB-A51466DB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2148F-B7F8-4D23-BA3E-4CEBFAF9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CD14-1F42-462F-82F9-E8B16948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B0C9-6EEA-4BCC-806D-76001210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D496-D6D9-412A-A79C-2754052EB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B04D-5F17-4160-B52E-A8D016589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3886200"/>
            <a:ext cx="8153280" cy="1752480"/>
          </a:xfrm>
          <a:prstGeom prst="rect">
            <a:avLst/>
          </a:prstGeom>
          <a:noFill/>
          <a:ln w="0">
            <a:noFill/>
          </a:ln>
        </p:spPr>
        <p: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2814480" y="3116160"/>
            <a:ext cx="351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371240"/>
            <a:ext cx="4267080" cy="4419720"/>
          </a:xfrm>
          <a:prstGeom prst="rect">
            <a:avLst/>
          </a:prstGeom>
          <a:noFill/>
          <a:ln w="0">
            <a:noFill/>
          </a:ln>
          <a:effectLst>
            <a:outerShdw dist="107932" dir="13500000" blurRad="0" rotWithShape="0">
              <a:srgbClr val="808080">
                <a:alpha val="50000"/>
              </a:srgbClr>
            </a:outerShdw>
          </a:effectLst>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3a3</cp:lastModifiedBy>
  <dcterms:modified xsi:type="dcterms:W3CDTF">2012-06-18T11:02: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